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A58-C4FC-47CA-895C-4D8DA228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662-0C28-4045-8F46-65CCDC0D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E48-ACBE-4DDF-A59D-17EB0ADA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6D0-66E3-4AA5-81A6-6F14FC88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460-C9E6-4B29-BE57-560F4628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BDB-DDD8-4736-8894-CBFD8A7C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6AC-E790-470A-853A-A216DCD5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545-9881-4E43-ABF8-194C5095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BEE-5E5A-4C7F-A546-1D383418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B10-7454-49DE-8200-CF5F4F4A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AB5-E26D-4F72-B775-260747FC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04F-4BFF-4C55-8C24-D649A095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2FE1-864E-4845-8445-6AD8E9672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4032000" cy="10796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CLO DE VIDA DOCUMEN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3 CuadroTexto"/>
          <p:cNvSpPr/>
          <p:nvPr/>
        </p:nvSpPr>
        <p:spPr>
          <a:xfrm>
            <a:off x="1042920" y="1916280"/>
            <a:ext cx="201636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ivo de tram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4 CuadroTexto"/>
          <p:cNvSpPr/>
          <p:nvPr/>
        </p:nvSpPr>
        <p:spPr>
          <a:xfrm>
            <a:off x="5364000" y="1628640"/>
            <a:ext cx="165600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ivo de concentra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6 Conector recto de flecha"/>
          <p:cNvCxnSpPr>
            <a:stCxn id="42" idx="3"/>
          </p:cNvCxnSpPr>
          <p:nvPr/>
        </p:nvCxnSpPr>
        <p:spPr>
          <a:xfrm>
            <a:off x="3059280" y="2100240"/>
            <a:ext cx="2089440" cy="3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" name="7 CuadroTexto"/>
          <p:cNvSpPr/>
          <p:nvPr/>
        </p:nvSpPr>
        <p:spPr>
          <a:xfrm>
            <a:off x="1619280" y="3141720"/>
            <a:ext cx="56167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tino f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9 Conector recto de flecha"/>
          <p:cNvCxnSpPr/>
          <p:nvPr/>
        </p:nvCxnSpPr>
        <p:spPr>
          <a:xfrm flipH="1">
            <a:off x="4426920" y="2276640"/>
            <a:ext cx="144036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" name="10 CuadroTexto"/>
          <p:cNvSpPr/>
          <p:nvPr/>
        </p:nvSpPr>
        <p:spPr>
          <a:xfrm>
            <a:off x="1476360" y="4869000"/>
            <a:ext cx="21589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ivos históric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1 CuadroTexto"/>
          <p:cNvSpPr/>
          <p:nvPr/>
        </p:nvSpPr>
        <p:spPr>
          <a:xfrm>
            <a:off x="5580000" y="4797360"/>
            <a:ext cx="2016360" cy="6426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jas document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13 Conector recto de flecha"/>
          <p:cNvCxnSpPr/>
          <p:nvPr/>
        </p:nvCxnSpPr>
        <p:spPr>
          <a:xfrm flipH="1">
            <a:off x="2771640" y="3572280"/>
            <a:ext cx="1440360" cy="115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15 Conector recto de flecha"/>
          <p:cNvCxnSpPr/>
          <p:nvPr/>
        </p:nvCxnSpPr>
        <p:spPr>
          <a:xfrm>
            <a:off x="4642920" y="3573360"/>
            <a:ext cx="180108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14:25:24Z</dcterms:created>
  <dc:creator>Windows Vista</dc:creator>
  <dc:description/>
  <dc:language>en-US</dc:language>
  <cp:lastModifiedBy> </cp:lastModifiedBy>
  <dcterms:modified xsi:type="dcterms:W3CDTF">2011-07-13T17:56:29Z</dcterms:modified>
  <cp:revision>2</cp:revision>
  <dc:subject/>
  <dc:title>CICLO DE VIDA DOCUMENTAL</dc:title>
</cp:coreProperties>
</file>